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1FF0-E086-42D1-804E-25489B62B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444D-F735-4063-80E6-CF5BE6B23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B9D7-BB4C-4D47-8504-0FBA0109B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65BD-8C49-48B4-8EDF-220B372D0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30F0-54D5-41C0-BAB2-C7AF72278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C428-3FF4-4231-BC8C-03C1D4B34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0F02-6723-4983-8688-EC88BF6E4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2EB4-8BED-4D6A-8435-4CAD408B3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85D4-ABDC-4B60-AA28-5B862CAEC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F587-1A07-45C8-A39D-DD6BDB683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A889-277E-4190-9510-648B5EB11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B6B2-09E4-41D3-9ED3-BF8EF7A48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B19AB-7964-4163-B3E0-C6FD03CCED6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anguage Focu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79200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The couple used up all their money to seek their 5-year-old son, who got lost months ag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Use up 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用完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,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用尽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,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筋疲力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g: I have used up all the clu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oldiers were used up after the long batt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　２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was only later that the world recognized his greatne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本句为强调句，原句式为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nguage Foc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4360" y="1557000"/>
            <a:ext cx="7920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ter the world recognized his greatne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00"/>
                </a:solidFill>
                <a:latin typeface="Times New Roman"/>
              </a:rPr>
              <a:t>强调句的结构为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It is / was … that / who …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例如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was I that/who saw a film in the Youth Palace last night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强调主语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was a film that I saw in the Youth Palace last night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强调宾语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was last night that I saw a film in the Youth Palace 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强调时间状语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4000" y="189000"/>
            <a:ext cx="806436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was in the Youth Palace that I saw a film last night.(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强调地点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was because he mother was ill that she didn’t go with us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强调原因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…only by discovering what we do best can we hope to reach our goals and truly make a differe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00"/>
                </a:solidFill>
                <a:latin typeface="Times New Roman"/>
              </a:rPr>
              <a:t>倒装句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．正常语序应该是：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hope to reach our goals and truly make a difference by discovering what we do be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用倒装的目的是为了加强语气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，例如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y then did I realize its impirt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nguage Foc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y in this way can we solve the probl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y when people lose freedom do they know its valu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</cp:lastModifiedBy>
  <dcterms:modified xsi:type="dcterms:W3CDTF">2004-08-15T15:13:32Z</dcterms:modified>
  <cp:revision>2</cp:revision>
  <dc:subject/>
  <dc:title>PowerPoint Presentation</dc:title>
</cp:coreProperties>
</file>